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224A-EE2D-4344-AA48-2F5B2C3F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D680-EE91-4B9E-861C-4236CF03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352-4C16-42E3-9CA5-3A3DB86B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15F-7D51-4328-A335-D41C8443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FDB3-1667-448A-8539-44BBCF6C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9B0E-E9FA-48E0-B606-8CBEFC1C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75FC-691E-46EE-97AE-2A9EBB8F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ED17-E342-4B6D-99C8-6DA353A2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5A04-8910-48A8-9B56-C8937FFC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D754-2399-4F47-B12D-B7B6E730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7819-9306-4EF1-804A-0FC9BB4B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D6E3-6764-4023-8409-148AD3A7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08AF-C7D9-48A5-98CB-2736A44C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4999-6D6B-40F9-94F1-1B56B97D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A4F1-748B-4158-B68C-C35CAC50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6049-2A08-4C89-97A0-FDAF4C4A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A48A-0371-4782-A9A8-8807E6DF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41E-C801-4EAE-956A-B8625584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69B-EF1E-44AB-9ED7-DE60E430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39D-4D21-41E6-9FA4-E120FAD2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E4E-31A9-432D-A535-67C2170A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F93-9B7C-4A11-B322-E2C7F96E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EDF-F7C2-46B2-945D-D17B34F2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F178-5E7B-4851-912A-667FB97E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8646-35CA-49C4-897E-EB019FF5BCC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C006-0827-43E1-BA95-4A104A7B177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5f71"/>
                </a:solidFill>
                <a:latin typeface="Book Antiqua"/>
              </a:rPr>
              <a:t>A metasearch engine: your search query is sent to several search engines at one time and the results are integrated into one lis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arch.com save your top search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ree search softwar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vance sear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recto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ferenc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l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rcRect l="20869" t="26156" r="20869" b="44616"/>
          <a:stretch/>
        </p:blipFill>
        <p:spPr>
          <a:xfrm>
            <a:off x="1447920" y="1752480"/>
            <a:ext cx="594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rcRect l="0" t="0" r="26941" b="51452"/>
          <a:stretch/>
        </p:blipFill>
        <p:spPr>
          <a:xfrm>
            <a:off x="228600" y="1295280"/>
            <a:ext cx="4586400" cy="304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343400" y="4191120"/>
            <a:ext cx="4800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047760" cy="320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800600" y="152280"/>
            <a:ext cx="3505320" cy="3124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3124080" cy="3276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4"/>
          <a:stretch/>
        </p:blipFill>
        <p:spPr>
          <a:xfrm>
            <a:off x="4876920" y="3581280"/>
            <a:ext cx="35049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707400"/>
            <a:ext cx="54864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34800" y="1047600"/>
            <a:ext cx="4376880" cy="366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rcRect l="0" t="12953" r="11291" b="7500"/>
          <a:stretch/>
        </p:blipFill>
        <p:spPr>
          <a:xfrm>
            <a:off x="4648320" y="1219320"/>
            <a:ext cx="4190760" cy="3124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rcRect l="20692" t="24242" r="22415" b="12121"/>
          <a:stretch/>
        </p:blipFill>
        <p:spPr>
          <a:xfrm>
            <a:off x="228600" y="441972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4"/>
          <a:srcRect l="21430" t="23686" r="21430" b="7894"/>
          <a:stretch/>
        </p:blipFill>
        <p:spPr>
          <a:xfrm>
            <a:off x="4648320" y="4419720"/>
            <a:ext cx="426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7:31:44Z</dcterms:created>
  <dc:creator>ccstudent</dc:creator>
  <dc:description/>
  <dc:language>en-US</dc:language>
  <cp:lastModifiedBy>ccstudent</cp:lastModifiedBy>
  <dcterms:modified xsi:type="dcterms:W3CDTF">2011-02-06T18:04:51Z</dcterms:modified>
  <cp:revision>4</cp:revision>
  <dc:subject/>
  <dc:title>Search.com</dc:title>
</cp:coreProperties>
</file>